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7BD-AAE2-4719-8FB5-EFC14EB3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75B-7287-4AB3-B416-357765B5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034-420D-4C59-A526-8062556D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763-2D9B-4312-A8ED-2060FCFA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CE8-7CB6-4926-BDF1-59EBEB3E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3FA-AF2C-40D2-B86E-3453F516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544-3EBB-4021-AEF6-098AED55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788-347E-4964-9295-125023B5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FA9-0814-4712-B9A5-7042DD42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E07-1FBF-427A-88BA-55D83202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07E-F4B3-4E03-924D-DA16E16E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B62-FD56-4AFF-82A7-7070A6B9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careerwriters.com/images/puzzle.right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2303-DBEF-4809-90E6-0755943379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uzzle.righ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982080" cy="847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62520" y="914400"/>
            <a:ext cx="518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国际企业管理挑战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Global Management Challenge, 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4114800"/>
            <a:ext cx="739116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第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26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届国际企业管理挑战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第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10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届中国赛区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(2005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年度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)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闭幕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GMC 2005 China, Closing Cere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8280" y="4495680"/>
            <a:ext cx="5410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华南理工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银河队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295280"/>
            <a:ext cx="61722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年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第三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The 3 rd Pl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of  GMC 2005 China National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743200" y="1219320"/>
            <a:ext cx="64008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年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第二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The 2nd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of  GMC 2005 China National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4572000"/>
            <a:ext cx="5410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西南民族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触电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8120" y="990720"/>
            <a:ext cx="5486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年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冠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China National Champ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41000" y="48006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宋体"/>
              </a:rPr>
              <a:t>北京理工大学中冠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8120" y="7621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年度中国赛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1752480"/>
            <a:ext cx="556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团体总分第一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西南民族大学（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336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分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团体总分第二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吉林大学商学院（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315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分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团体总分第三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北京理工大学（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277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分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81280" y="914400"/>
            <a:ext cx="518184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华北地区冠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25160" y="453240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北京航空航天大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来电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05320" y="990720"/>
            <a:ext cx="518148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东北地区冠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48040" y="4648320"/>
            <a:ext cx="46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吉林大学管理学院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309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81280" y="914400"/>
            <a:ext cx="518184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华东地区冠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6520" y="44197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南京理工大学三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05320" y="990720"/>
            <a:ext cx="518148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华南地区冠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89640" y="42670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中山大学创业中心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81280" y="914400"/>
            <a:ext cx="518184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西南地区冠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3080" y="43797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西南民族大学民大二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505320" y="990720"/>
            <a:ext cx="518148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西北地区冠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44956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西安交通大学回归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81280" y="685800"/>
            <a:ext cx="518184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最佳组织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Organization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4114800"/>
            <a:ext cx="7391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0000"/>
                </a:solidFill>
                <a:latin typeface="Times New Roman"/>
                <a:ea typeface="宋体"/>
              </a:rPr>
              <a:t>             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19640" y="3403440"/>
            <a:ext cx="261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北京航空航天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北京理工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重庆工学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华南理工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西南民族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05320" y="990720"/>
            <a:ext cx="51814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优胜奖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（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第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到第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8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名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35200" y="3352680"/>
            <a:ext cx="6508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北京航空航空大学来电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西南民族大学管理学院西南民大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西南民族大学管理学院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灵狐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西南民族大学南极光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  <a:ea typeface="宋体"/>
              </a:rPr>
              <a:t>北京理工大学延河之星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57400" y="45720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Chinese Universities and MBA Schools Participated in G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北方工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北方交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北京大学光华管理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北京工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北京航空航天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北京化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北京科技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北京理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长春理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重庆工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大连理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电子科技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东北财经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东南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对外经济贸易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复旦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广东外语外贸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广西大学商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广西师范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桂林电子工业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哈尔滨工程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哈尔滨工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合肥工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河北工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湖南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81080" y="53352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Chinese Universities and MBA Schools Participated in G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华东理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华南理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华中科技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吉林大学经管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吉林大学商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暨南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江西财经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兰州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辽宁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南京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南开大学</a:t>
            </a: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清华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清华大学经管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山东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上海财经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上海交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石油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四川大学工商管理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四川大学生命科学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苏州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天津财经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天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同济大学</a:t>
            </a: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0880" y="457200"/>
            <a:ext cx="1177920" cy="1447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14600" y="3808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Chinese Universities and MBA Schools Participated in G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武汉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西安交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西安理工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西安外语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西北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西北工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西南财经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西南交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厦门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浙江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中国地质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中国海洋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中国科技大学商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中国矿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中国农业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中国人民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中南财经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中南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中南政法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中山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中山大学岭南学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中央财经大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14600" y="3808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Chinese Universities and MBA Schools Participated in G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宋体"/>
              </a:rPr>
              <a:t>北京农学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宋体"/>
              </a:rPr>
              <a:t>江苏大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宋体"/>
              </a:rPr>
              <a:t>南京理工大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宋体"/>
              </a:rPr>
              <a:t>天津商学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宋体"/>
              </a:rPr>
              <a:t>西南民族大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宋体"/>
              </a:rPr>
              <a:t>浙江财经学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宋体"/>
              </a:rPr>
              <a:t>云南大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宋体"/>
              </a:rPr>
              <a:t>北方工业大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宋体"/>
              </a:rPr>
              <a:t>北京邮电大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宋体"/>
              </a:rPr>
              <a:t>沈阳师范大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62520" y="914400"/>
            <a:ext cx="5181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国际企业管理挑战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10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年历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lobal Management Challenge, 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8160" y="4724280"/>
            <a:ext cx="386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Times New Roman"/>
                <a:ea typeface="宋体"/>
              </a:rPr>
              <a:t>1996 - 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90920" y="838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1996 GMC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第一届中国赛区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北方交通大学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National Champion of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96-1" descr=""/>
          <p:cNvPicPr/>
          <p:nvPr/>
        </p:nvPicPr>
        <p:blipFill>
          <a:blip r:embed="rId2"/>
          <a:stretch/>
        </p:blipFill>
        <p:spPr>
          <a:xfrm>
            <a:off x="2133720" y="2313000"/>
            <a:ext cx="6248160" cy="4148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90920" y="838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1997 GMC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第二届中国赛区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对外经济贸易大学一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National Champion of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26" name="97-1" descr=""/>
          <p:cNvPicPr/>
          <p:nvPr/>
        </p:nvPicPr>
        <p:blipFill>
          <a:blip r:embed="rId2"/>
          <a:stretch/>
        </p:blipFill>
        <p:spPr>
          <a:xfrm>
            <a:off x="1828800" y="2430360"/>
            <a:ext cx="6113520" cy="4427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90920" y="838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1998 GMC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第三届中国赛区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经贸大学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国贸中心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National Champion of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98-1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6180120" cy="37418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90920" y="838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1999 GMC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第四届中国赛区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对外经济贸易大学西门子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National Champion of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32" name="99-1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5791320" cy="43084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9000" y="68580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新秀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Rising Stars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3449520"/>
            <a:ext cx="4495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长春理工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广西工学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黑龙江科技学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南京理工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沈阳师范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90920" y="838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2000 GMC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第五届中国赛区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对外经济贸易大学挑战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National Champion of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35" name="2000-1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5715000" cy="38131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90920" y="838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2001 GMC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第六届中国赛区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四川大学迪康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National Champion of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2001-1" descr=""/>
          <p:cNvPicPr/>
          <p:nvPr/>
        </p:nvPicPr>
        <p:blipFill>
          <a:blip r:embed="rId2"/>
          <a:stretch/>
        </p:blipFill>
        <p:spPr>
          <a:xfrm>
            <a:off x="2057400" y="2286000"/>
            <a:ext cx="6324480" cy="42591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90920" y="838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2002 GMC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第七届中国赛区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四川大学米兰家俬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喝彩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National Champion of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Dsc00504" descr=""/>
          <p:cNvPicPr/>
          <p:nvPr/>
        </p:nvPicPr>
        <p:blipFill>
          <a:blip r:embed="rId2"/>
          <a:stretch/>
        </p:blipFill>
        <p:spPr>
          <a:xfrm>
            <a:off x="1905120" y="2225520"/>
            <a:ext cx="6172200" cy="46324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90920" y="838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2003 GMC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第八届中国赛区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中山大学暴风雪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National Champion of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first2003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5943600" cy="4103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90920" y="838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2004 GMC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第九届中国赛区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西安交通大学贝贝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National Champion of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47" name="1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6553440" cy="42987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90920" y="838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2005 GMC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第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10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届中国赛区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北京理工大学中冠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National Champion of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50" name="DSCN0447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7086600" cy="52848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733920" y="609480"/>
            <a:ext cx="51814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国际总决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队成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Chinese Teams in  International Finals of  Global Management Challe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6040" y="5334120"/>
            <a:ext cx="349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Times New Roman"/>
                <a:ea typeface="宋体"/>
              </a:rPr>
              <a:t>1996 - 200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77920" cy="1447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28800" y="838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fd00"/>
                </a:solidFill>
                <a:latin typeface="宋体"/>
                <a:ea typeface="宋体"/>
              </a:rPr>
              <a:t>中国队在国际总决赛中的成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438280"/>
            <a:ext cx="381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43000" y="2209680"/>
          <a:ext cx="7554960" cy="3645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209680"/>
                    <a:ext cx="755496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8000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133720" y="91440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1999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年中国队首次获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GMC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国际总决赛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International Champion of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61" name="worldchamp" descr=""/>
          <p:cNvPicPr/>
          <p:nvPr/>
        </p:nvPicPr>
        <p:blipFill>
          <a:blip r:embed="rId2"/>
          <a:stretch/>
        </p:blipFill>
        <p:spPr>
          <a:xfrm>
            <a:off x="1905120" y="2290680"/>
            <a:ext cx="6553080" cy="4567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33720" y="83808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2000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年中国队第二次获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GMC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国际总决赛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International Champion of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64" name="8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5908680" cy="4103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609480"/>
            <a:ext cx="59436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奋进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Efforts to Progress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3505320"/>
            <a:ext cx="4587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大连理工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合肥工业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南京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西北工业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厦门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33720" y="83808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2002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年中国队第三次获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GMC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国际总决赛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International Champion of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67" name="颁奖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6045120" cy="45338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0" y="83808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2003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年中国队第四次获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GMC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国际总决赛冠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宋体"/>
              </a:rPr>
              <a:t>The International Champion of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79480" y="457200"/>
            <a:ext cx="117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china2003interfinal" descr=""/>
          <p:cNvPicPr/>
          <p:nvPr/>
        </p:nvPicPr>
        <p:blipFill>
          <a:blip r:embed="rId2"/>
          <a:stretch/>
        </p:blipFill>
        <p:spPr>
          <a:xfrm>
            <a:off x="1600200" y="2247840"/>
            <a:ext cx="6566040" cy="4381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81280" y="914400"/>
            <a:ext cx="518184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突出贡献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Dedication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4059360"/>
            <a:ext cx="458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宋体"/>
              </a:rPr>
              <a:t>吉林大学商学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宋体"/>
              </a:rPr>
              <a:t>上海交通大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05320" y="76212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积极参与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Participation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46680" y="3352680"/>
            <a:ext cx="4206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北京科技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哈尔滨工业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西南交通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中国石油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中山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05320" y="762120"/>
            <a:ext cx="5181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,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企业赞助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宋体"/>
              </a:rPr>
              <a:t>Sponsorship Aw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191120"/>
            <a:ext cx="420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宋体"/>
              </a:rPr>
              <a:t>中国矿业大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038400" cy="373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57600" y="914400"/>
            <a:ext cx="518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国际企业管理挑战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宋体"/>
              </a:rPr>
              <a:t>Global Management Challenge, China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29200"/>
            <a:ext cx="883908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第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26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届国际企业管理挑战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第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10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届中国赛区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(2005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年度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)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总决赛结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GMC 2005China National Final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38280" y="228600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西南民族大学管理学院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灵狐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西南民族大学管理学院西南民大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西南民族大学触电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华南理工大学银河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北京航空航天大学来电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北京理工大学延河之星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北京理工大学管理与经济学院中冠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西南民族大学南极光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808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GMC 2005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年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中国赛区决赛队名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Teams of  GMC 2005 China National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038760" cy="37339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3:00:17Z</dcterms:created>
  <dc:creator>Filipa Freitas</dc:creator>
  <dc:description/>
  <dc:language>en-US</dc:language>
  <cp:lastModifiedBy>John</cp:lastModifiedBy>
  <dcterms:modified xsi:type="dcterms:W3CDTF">2006-01-19T07:47:05Z</dcterms:modified>
  <cp:revision>314</cp:revision>
  <dc:subject/>
  <dc:title>GMC RESULTS</dc:title>
</cp:coreProperties>
</file>