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25E-1A9C-4E96-B49C-0F693F57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3EB-66DC-4D1C-A618-1CD37FD4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D3A-3DB5-4DE4-BA96-881E571B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32D-7273-4D51-83F7-9CA14719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6F8-1F80-4CB6-9B26-6A84A20C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AF5-5AFE-45F5-8469-7E7D3196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659-E656-4431-A97E-8F68E3C8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32F-16A3-4681-93E1-B932E7E6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012-9122-413C-B60D-7FC4132E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A1E-DD27-4BB4-9570-E4C30807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D18-9761-4159-B6DB-D8956E28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C74-5A16-4D2C-A464-ACC756E3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careerwriters.com/images/puzzle.right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15A4-7FD6-456E-AE55-0CA34928B7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uzzle.righ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982080" cy="847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9880" y="914400"/>
            <a:ext cx="56390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国际企业管理挑战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lobal Management Challenge, China,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4038480"/>
            <a:ext cx="739116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"/>
              </a:rPr>
              <a:t>第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"/>
              </a:rPr>
              <a:t>21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"/>
              </a:rPr>
              <a:t>届国际企业管理挑战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"/>
              </a:rPr>
              <a:t>第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"/>
              </a:rPr>
              <a:t>8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"/>
              </a:rPr>
              <a:t>届中国赛区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"/>
              </a:rPr>
              <a:t>(2003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"/>
              </a:rPr>
              <a:t>年度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"/>
              </a:rPr>
              <a:t>)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"/>
              </a:rPr>
              <a:t>闭幕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"/>
              </a:rPr>
              <a:t>GMC 2003 China, Closing Cere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1080" y="380880"/>
            <a:ext cx="69343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GMC 200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年度中国赛区第四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Place of GMC 2003 China National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1981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四川大学森队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(1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2590920"/>
          <a:ext cx="768348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590920"/>
                    <a:ext cx="7683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81080" y="380880"/>
            <a:ext cx="69343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GMC 200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年度中国赛区第五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Place of GMC 2003 China National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9810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对外经贸大学惠美队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(2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2590920"/>
          <a:ext cx="768348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590920"/>
                    <a:ext cx="7683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81080" y="380880"/>
            <a:ext cx="69343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GMC 200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年度中国赛区第六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6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Place of GMC 2003 China National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19810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对外经贸大学智融咨询队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(1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66680" y="2590920"/>
          <a:ext cx="768348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590920"/>
                    <a:ext cx="7683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81080" y="380880"/>
            <a:ext cx="69343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GMC 200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年度中国赛区第七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7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Place of GMC 2003 China National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981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哈工大求实队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(1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2590920"/>
          <a:ext cx="768348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590920"/>
                    <a:ext cx="7683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62520" y="914400"/>
            <a:ext cx="518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国际企业管理挑战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lobal Management Challenge, China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91120"/>
            <a:ext cx="876276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第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21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届国际企业管理挑战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第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8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届中国赛区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(2003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年度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)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荣誉奖名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                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wards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 of GMC 2003,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62520" y="9144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突出贡献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Dedication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111560"/>
            <a:ext cx="739152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清华大学经济管理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chool of Economics &amp; Management,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singhua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62520" y="9144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突出贡献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Dedication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4111560"/>
            <a:ext cx="739152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华南理工大学工商管理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outh China University of                  Technology,  School of Business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62520" y="9144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最佳组织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Organization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111560"/>
            <a:ext cx="73915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北京交通大学经济管理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Economics and Management School,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Beijing Jiaotong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62520" y="9144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最佳组织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Organization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809880"/>
            <a:ext cx="74674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中山大学管理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chool of Business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Zhongshan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n Yat-Sen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62520" y="9144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新秀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Rising Stars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111560"/>
            <a:ext cx="7391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合肥工业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Hefei University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of 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2520" y="914400"/>
            <a:ext cx="518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国际企业管理挑战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lobal Management Challenge, 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809880"/>
            <a:ext cx="876312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中国赛区参赛院校名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Chinese Universities and MBA Schools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Participated in GM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62520" y="9144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新秀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Rising Stars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4111560"/>
            <a:ext cx="739152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中国地质大学人文与经济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chool of Humanities &amp; Economic Management , China University of Geosci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62520" y="9144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新秀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Rising Stars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4111560"/>
            <a:ext cx="7391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北京石油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Beijing University of Petrole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733920" y="914400"/>
            <a:ext cx="59436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奋进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Efforts to Progress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111560"/>
            <a:ext cx="7391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河北工业大学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Hebei University of 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914400"/>
            <a:ext cx="579132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奋进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Efforts to Progress Awards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111560"/>
            <a:ext cx="73915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哈尔滨工程大学经济管理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Harbin Engineering University, School of Economics &amp;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33920" y="914400"/>
            <a:ext cx="57150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奋进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Efforts to Progress Awards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111560"/>
            <a:ext cx="73915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重庆工学院工商管理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chool of Business , Chongqing        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Institute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62520" y="9144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积极参与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Participation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4111560"/>
            <a:ext cx="739152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西南交通大学经济管理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chool of Economics &amp; Management,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outhwest Jiaotong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62520" y="914400"/>
            <a:ext cx="51814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积极参与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Participation Awards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4111560"/>
            <a:ext cx="77724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吉林大学管理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anagement School, Jilin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62520" y="9144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积极参与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Participation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111560"/>
            <a:ext cx="739152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江西财经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iangxi Finance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62520" y="9144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积极参与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Participation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4111560"/>
            <a:ext cx="739152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西北工业大学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Northwest University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62520" y="9144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3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积极参与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Participation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111560"/>
            <a:ext cx="8001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北京理工大学管理与经济学院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chool of Management &amp; Economics,                 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Beijing Institute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Chinese Universities and MBA Schools Participated in G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北方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北京交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北京大学光华管理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北京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北京航空航天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北京化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北京科技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北京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长春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大连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电子科技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东北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东南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对外经济贸易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复旦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广东外语外贸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广西大学商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广西师范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桂林电子工业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哈尔滨工程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哈尔滨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合肥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河北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湖南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62520" y="914400"/>
            <a:ext cx="518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国际企业管理挑战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lobal Management Challenge, China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191120"/>
            <a:ext cx="876276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第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21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届国际企业管理挑战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第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8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届中国赛区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(2003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年度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)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决赛参赛队名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Teams of GMC 2003 China National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0" y="66996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四川大学工商管理学院毅力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2757600"/>
            <a:ext cx="4191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曹麒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队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杨乾军、李胜、辜凡、冯首春、徐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52480" y="76212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四川大学工商管理学院凯联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2514600"/>
            <a:ext cx="52578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曹麒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队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宋体"/>
                <a:ea typeface="宋体"/>
              </a:rPr>
              <a:t>陆涛、张栩、张晓娟、邓艳琳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宋体"/>
                <a:ea typeface="宋体"/>
              </a:rPr>
              <a:t>董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05120" y="7621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对外经济贸易大学智融咨询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2438280"/>
            <a:ext cx="38098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赵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队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新魏"/>
              </a:rPr>
              <a:t>刘汉达、 陆亚新、 宋克祥、 郭峰</a:t>
            </a:r>
            <a:r>
              <a:rPr b="0" lang="zh-CN" sz="3200" spc="-1" strike="noStrike">
                <a:solidFill>
                  <a:srgbClr val="ff993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28800" y="83808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四川大学工商管理学院森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43828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曹麒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队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杨博、王键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邓颖颖、彭超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刘一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81080" y="6858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哈工大管理学院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MBA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中心求实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438280"/>
            <a:ext cx="3809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张明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队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杜春江、杜春雨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施阳、潘贵友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谷煜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28800" y="7621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对外经济贸易大学灌木丛一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2438280"/>
            <a:ext cx="3200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赵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队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杜杰、 高轶夫、 吕丹、 朱义明、 张珣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05120" y="83808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合肥工业大学管理学院精灵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2674800"/>
            <a:ext cx="3124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指导教师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文  理、季  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队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徐  磊、李新宇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黄  婧、傅雪莲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张  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28800" y="83808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对外经济贸易大学终结者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438280"/>
            <a:ext cx="32004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赵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队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周子耀、林岚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阳凌峰、唐振宇、 胡玲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52480" y="6858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对外经济贸易大学幽舞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2771640"/>
            <a:ext cx="380988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赵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队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刘潇、李想、赵杰、 戴一宁、符茂捷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Chinese Universities and MBA Schools Participated in G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华东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华南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华中科技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吉林大学经管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吉林大学商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暨南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江西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兰州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辽宁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南京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宋体"/>
                <a:ea typeface="宋体"/>
              </a:rPr>
              <a:t>南开大学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清华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清华大学经管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山东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上海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上海交通大学安泰管理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石油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四川大学工商管理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四川大学生命科学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天津财经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天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宋体"/>
                <a:ea typeface="宋体"/>
              </a:rPr>
              <a:t>同济大学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0" y="83808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对外经济贸易大学惠智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2590920"/>
            <a:ext cx="30481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赵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队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涂智炜、 王婷、 邱晓宇、 秦乙、 唐玉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28800" y="9144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四川大学工商管理学院沙漠之狐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2738520"/>
            <a:ext cx="350496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曹麒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队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宋体"/>
                <a:ea typeface="宋体"/>
              </a:rPr>
              <a:t>彭宏、董云翔、何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宋体"/>
                <a:ea typeface="宋体"/>
              </a:rPr>
              <a:t>杨浩、梁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0" y="6858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对外经济贸易大学惠美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14600"/>
            <a:ext cx="3200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赵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队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张晶晶、王鹏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左新词、初晓峰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81080" y="68580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中山大学管理学院暴风雪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2590920"/>
            <a:ext cx="3200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指导教师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欧阳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队员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李国鑫        李    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高建辉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谭光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余    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81080" y="83808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宋体"/>
              </a:rPr>
              <a:t>对外经济贸易大学追风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2833560"/>
            <a:ext cx="3505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赵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队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王智捷、易晓伟、 宋思勤、王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Chinese Universities and MBA Schools Participated in G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武汉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西安交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西安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西安外语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西北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西北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西南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西南交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厦门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浙江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国地质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国海洋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国科技大学商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国矿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国农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国人民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南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南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南政法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山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山大学岭南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中央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宋体"/>
                <a:ea typeface="宋体"/>
              </a:rPr>
              <a:t>重庆工学院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2520" y="914400"/>
            <a:ext cx="518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国际企业管理挑战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lobal Management Challenge, China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191120"/>
            <a:ext cx="815328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第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21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届国际企业管理挑战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第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8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届中国赛区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(2003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年度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)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决赛结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GMC 2003 China National Final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81080" y="380880"/>
            <a:ext cx="66294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GMC 200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年度中国赛区冠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GMC 2003 China National Champ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1981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山大学暴风雪队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(2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6680" y="2590920"/>
          <a:ext cx="768348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590920"/>
                    <a:ext cx="7683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81080" y="380880"/>
            <a:ext cx="71629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GMC 200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年度中国赛区亚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n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Place of GMC 2003 China National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981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对外经贸大学惠智队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(2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66680" y="2590920"/>
          <a:ext cx="768348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590920"/>
                    <a:ext cx="7683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81080" y="380880"/>
            <a:ext cx="71629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GMC 200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年度中国赛区第三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r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Place of GMC 2003 China National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四川大学沙漠之狐队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(2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组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公司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2590920"/>
          <a:ext cx="768348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590920"/>
                    <a:ext cx="7683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3:00:17Z</dcterms:created>
  <dc:creator>Filipa Freitas</dc:creator>
  <dc:description/>
  <dc:language>en-US</dc:language>
  <cp:lastModifiedBy>david</cp:lastModifiedBy>
  <dcterms:modified xsi:type="dcterms:W3CDTF">2012-01-10T10:17:42Z</dcterms:modified>
  <cp:revision>124</cp:revision>
  <dc:subject/>
  <dc:title>GMC RESULTS</dc:title>
</cp:coreProperties>
</file>